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19T19:14:15.971000000" idx="1">
    <p:pos x="5480" y="79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BEA6-6EA4-4F11-8448-2DBE040937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6026-D26D-40AA-A3CA-8842FD672F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544920" y="3778200"/>
            <a:ext cx="4483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421080" y="2465280"/>
            <a:ext cx="45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黑体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步混合运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含小括号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1"/>
          <p:cNvSpPr/>
          <p:nvPr/>
        </p:nvSpPr>
        <p:spPr>
          <a:xfrm>
            <a:off x="1255680" y="285264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两种载重的车各自运的货物加在一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这批货物的总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把每种车各一辆看成一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出五组运货的总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这批货物的总质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908000" y="2655720"/>
            <a:ext cx="562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×5×12+5.5×5×12=54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.5+5.5)×5×12=54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批货物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258920" y="262584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工程队原计划完成一项修路任务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每天比原计划多修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完成了任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计划每天修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1"/>
          <p:cNvSpPr/>
          <p:nvPr/>
        </p:nvSpPr>
        <p:spPr>
          <a:xfrm>
            <a:off x="1133640" y="2852640"/>
            <a:ext cx="6984720" cy="18003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每天多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就要比计划多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×9=31.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只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就能完成任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提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完成了任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当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修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原计划每天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.5÷5=6.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504800" y="299736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×9÷(14-9)=6.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计划每天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1" name="矩形 10"/>
          <p:cNvSpPr/>
          <p:nvPr/>
        </p:nvSpPr>
        <p:spPr>
          <a:xfrm>
            <a:off x="1550880" y="17604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丰农机厂某工人要加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零件。原计划每天加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改为每天比原计划多加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这样比原计划少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628560" y="4734000"/>
            <a:ext cx="1844640" cy="1431720"/>
          </a:xfrm>
          <a:prstGeom prst="rect">
            <a:avLst/>
          </a:prstGeom>
          <a:ln w="0">
            <a:noFill/>
          </a:ln>
        </p:spPr>
      </p:pic>
      <p:sp>
        <p:nvSpPr>
          <p:cNvPr id="166" name="矩形 2"/>
          <p:cNvSpPr/>
          <p:nvPr/>
        </p:nvSpPr>
        <p:spPr>
          <a:xfrm>
            <a:off x="2540160" y="3768840"/>
            <a:ext cx="414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80÷40-480÷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2-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样比原计划少用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73" name="矩形 19"/>
          <p:cNvSpPr/>
          <p:nvPr/>
        </p:nvSpPr>
        <p:spPr>
          <a:xfrm>
            <a:off x="1028880" y="270828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理解现在每天比原计划多加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的含义。求现在比原计划少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先求出现在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计划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求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28560" y="4734000"/>
            <a:ext cx="1844640" cy="1431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5"/>
          <p:cNvSpPr/>
          <p:nvPr/>
        </p:nvSpPr>
        <p:spPr>
          <a:xfrm rot="18297600">
            <a:off x="6940440" y="4692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0"/>
          <p:cNvSpPr/>
          <p:nvPr/>
        </p:nvSpPr>
        <p:spPr>
          <a:xfrm rot="18297600">
            <a:off x="5881680" y="2508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2171880" y="4137120"/>
            <a:ext cx="44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0÷80-480÷(40+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样比原计划少用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0"/>
          <p:cNvSpPr/>
          <p:nvPr/>
        </p:nvSpPr>
        <p:spPr>
          <a:xfrm>
            <a:off x="1835280" y="1822320"/>
            <a:ext cx="414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80÷40-480÷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2-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样比原计划少用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0"/>
          <p:cNvSpPr/>
          <p:nvPr/>
        </p:nvSpPr>
        <p:spPr>
          <a:xfrm>
            <a:off x="938160" y="1596960"/>
            <a:ext cx="72946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计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5.6×(26.18÷3.4)×1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(18.6-6.2)÷3.1×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1838160" y="2766960"/>
            <a:ext cx="3454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.6×7.7×1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60.3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同侧圆角矩形 1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838160" y="4365720"/>
            <a:ext cx="3597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12.4÷3.1×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4×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0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20880" y="1827360"/>
            <a:ext cx="73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学校买了足球、排球各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个足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1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个排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买足球比买排球多用多少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同侧圆角矩形 4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1" descr="男孩1"/>
          <p:cNvPicPr/>
          <p:nvPr/>
        </p:nvPicPr>
        <p:blipFill>
          <a:blip r:embed="rId1"/>
          <a:stretch/>
        </p:blipFill>
        <p:spPr>
          <a:xfrm>
            <a:off x="7481880" y="47991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7"/>
          <p:cNvSpPr/>
          <p:nvPr/>
        </p:nvSpPr>
        <p:spPr>
          <a:xfrm>
            <a:off x="3733920" y="5027760"/>
            <a:ext cx="3747960" cy="936360"/>
          </a:xfrm>
          <a:prstGeom prst="wedgeRoundRectCallout">
            <a:avLst>
              <a:gd name="adj1" fmla="val 59189"/>
              <a:gd name="adj2" fmla="val 142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时，一定要加小括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24000" y="2965320"/>
            <a:ext cx="4044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15-7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×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43×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21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08200" y="30099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带小括号的三步混合运算解决稍复杂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带小括号的三步混合运算的运算顺序和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808200" y="42102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解决问题的过程中，能进行有条理的思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0"/>
          <p:cNvSpPr/>
          <p:nvPr/>
        </p:nvSpPr>
        <p:spPr>
          <a:xfrm>
            <a:off x="874800" y="1504800"/>
            <a:ext cx="73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张一家四口和小王一家三口一起去旅游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旅游总费用是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2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两家决定按人数分摊旅游费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张家应付多少钱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同侧圆角矩形 1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1"/>
          <p:cNvGrpSpPr/>
          <p:nvPr/>
        </p:nvGrpSpPr>
        <p:grpSpPr>
          <a:xfrm>
            <a:off x="3708360" y="4959360"/>
            <a:ext cx="5072040" cy="1798560"/>
            <a:chOff x="3708360" y="4959360"/>
            <a:chExt cx="5072040" cy="1798560"/>
          </a:xfrm>
        </p:grpSpPr>
        <p:pic>
          <p:nvPicPr>
            <p:cNvPr id="200" name="Picture 36" descr="男孩1"/>
            <p:cNvPicPr/>
            <p:nvPr/>
          </p:nvPicPr>
          <p:blipFill>
            <a:blip r:embed="rId1"/>
            <a:stretch/>
          </p:blipFill>
          <p:spPr>
            <a:xfrm>
              <a:off x="7164360" y="4959360"/>
              <a:ext cx="16160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AutoShape 27"/>
            <p:cNvSpPr/>
            <p:nvPr/>
          </p:nvSpPr>
          <p:spPr>
            <a:xfrm>
              <a:off x="3708360" y="5176800"/>
              <a:ext cx="2991600" cy="697680"/>
            </a:xfrm>
            <a:prstGeom prst="wedgeRoundRectCallout">
              <a:avLst>
                <a:gd name="adj1" fmla="val 61347"/>
                <a:gd name="adj2" fmla="val 17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两家一共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口人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Text Box 60"/>
          <p:cNvSpPr/>
          <p:nvPr/>
        </p:nvSpPr>
        <p:spPr>
          <a:xfrm>
            <a:off x="1692360" y="3141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张家：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28÷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+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4=41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1692360" y="3933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王家：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28÷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+3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×3=312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3"/>
          <p:cNvSpPr/>
          <p:nvPr/>
        </p:nvSpPr>
        <p:spPr>
          <a:xfrm>
            <a:off x="1068480" y="155736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种感冒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0.2mg×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每日两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6mg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一盒能吃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4" descr="男孩1"/>
          <p:cNvPicPr/>
          <p:nvPr/>
        </p:nvPicPr>
        <p:blipFill>
          <a:blip r:embed="rId1"/>
          <a:stretch/>
        </p:blipFill>
        <p:spPr>
          <a:xfrm>
            <a:off x="7093080" y="4522680"/>
            <a:ext cx="1616040" cy="17989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27"/>
          <p:cNvSpPr/>
          <p:nvPr/>
        </p:nvSpPr>
        <p:spPr>
          <a:xfrm>
            <a:off x="3419640" y="4530600"/>
            <a:ext cx="3495600" cy="69876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一天吃几片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同侧圆角矩形 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763640" y="3284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12×3)÷(0.6÷0.2×2)=6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买一盒能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927000" y="1557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修一条水渠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原计划每天修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0.3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实际每天比原计划多修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0.0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米。修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后还剩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米没有修。这条水渠有多长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同侧圆角矩形 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263760" y="3348000"/>
            <a:ext cx="5195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0.35+0.0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15+0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0.43×15+0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.45+0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.9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组合 1"/>
          <p:cNvGrpSpPr/>
          <p:nvPr/>
        </p:nvGrpSpPr>
        <p:grpSpPr>
          <a:xfrm>
            <a:off x="320760" y="3933720"/>
            <a:ext cx="2938320" cy="2627280"/>
            <a:chOff x="320760" y="3933720"/>
            <a:chExt cx="2938320" cy="2627280"/>
          </a:xfrm>
        </p:grpSpPr>
        <p:pic>
          <p:nvPicPr>
            <p:cNvPr id="216" name="Picture 13" descr="男孩2"/>
            <p:cNvPicPr/>
            <p:nvPr/>
          </p:nvPicPr>
          <p:blipFill>
            <a:blip r:embed="rId1"/>
            <a:stretch/>
          </p:blipFill>
          <p:spPr>
            <a:xfrm>
              <a:off x="320760" y="4761360"/>
              <a:ext cx="119520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AutoShape 27"/>
            <p:cNvSpPr/>
            <p:nvPr/>
          </p:nvSpPr>
          <p:spPr>
            <a:xfrm>
              <a:off x="927360" y="3933720"/>
              <a:ext cx="2331720" cy="936000"/>
            </a:xfrm>
            <a:prstGeom prst="wedgeRoundRectCallout">
              <a:avLst>
                <a:gd name="adj1" fmla="val -39324"/>
                <a:gd name="adj2" fmla="val 7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实际一天修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21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AutoShape 27"/>
          <p:cNvSpPr/>
          <p:nvPr/>
        </p:nvSpPr>
        <p:spPr>
          <a:xfrm>
            <a:off x="5940360" y="1603440"/>
            <a:ext cx="2952720" cy="103356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有小括号要先算小括号里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2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矩形 21"/>
          <p:cNvSpPr/>
          <p:nvPr/>
        </p:nvSpPr>
        <p:spPr>
          <a:xfrm>
            <a:off x="615960" y="3860640"/>
            <a:ext cx="7891560" cy="5205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决实际问题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明确先求什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求什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后求什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622440" y="5157720"/>
            <a:ext cx="7891200" cy="520560"/>
          </a:xfrm>
          <a:prstGeom prst="rect">
            <a:avLst/>
          </a:prstGeom>
          <a:solidFill>
            <a:srgbClr val="6dff44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四则混合运算解决实际问题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适当运用小括号来解决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116000" y="1773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题的运算顺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333440" y="277956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53200" y="26845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8×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533600" y="488952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8-424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333440" y="3770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÷3×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600880" y="4889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+78×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267160" y="3686040"/>
            <a:ext cx="27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0÷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1866960" y="334332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6095880" y="3262320"/>
            <a:ext cx="1067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1533600" y="440532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6324480" y="4338720"/>
            <a:ext cx="1379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2476440" y="547380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6286680" y="5473800"/>
            <a:ext cx="1233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2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2"/>
          <p:cNvSpPr/>
          <p:nvPr/>
        </p:nvSpPr>
        <p:spPr>
          <a:xfrm>
            <a:off x="1079640" y="1415880"/>
            <a:ext cx="73436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丫丫买来一本《童话故事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划每天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看完。照丫丫第一天看的页数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完这本书比计划要少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组合 3"/>
          <p:cNvGrpSpPr/>
          <p:nvPr/>
        </p:nvGrpSpPr>
        <p:grpSpPr>
          <a:xfrm>
            <a:off x="5508720" y="4834080"/>
            <a:ext cx="3649680" cy="1798560"/>
            <a:chOff x="5508720" y="4834080"/>
            <a:chExt cx="3649680" cy="1798560"/>
          </a:xfrm>
        </p:grpSpPr>
        <p:pic>
          <p:nvPicPr>
            <p:cNvPr id="77" name="Picture 33" descr="男孩1"/>
            <p:cNvPicPr/>
            <p:nvPr/>
          </p:nvPicPr>
          <p:blipFill>
            <a:blip r:embed="rId1"/>
            <a:stretch/>
          </p:blipFill>
          <p:spPr>
            <a:xfrm>
              <a:off x="7542360" y="4834080"/>
              <a:ext cx="16160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AutoShape 27"/>
            <p:cNvSpPr/>
            <p:nvPr/>
          </p:nvSpPr>
          <p:spPr>
            <a:xfrm>
              <a:off x="5508720" y="5097600"/>
              <a:ext cx="2033640" cy="635760"/>
            </a:xfrm>
            <a:prstGeom prst="wedgeRoundRectCallout">
              <a:avLst>
                <a:gd name="adj1" fmla="val 61347"/>
                <a:gd name="adj2" fmla="val 17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周是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4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天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组合 2"/>
          <p:cNvGrpSpPr/>
          <p:nvPr/>
        </p:nvGrpSpPr>
        <p:grpSpPr>
          <a:xfrm>
            <a:off x="363600" y="4795920"/>
            <a:ext cx="4194000" cy="1800000"/>
            <a:chOff x="363600" y="4795920"/>
            <a:chExt cx="4194000" cy="1800000"/>
          </a:xfrm>
        </p:grpSpPr>
        <p:pic>
          <p:nvPicPr>
            <p:cNvPr id="80" name="Picture 72" descr="女孩2"/>
            <p:cNvPicPr/>
            <p:nvPr/>
          </p:nvPicPr>
          <p:blipFill>
            <a:blip r:embed="rId2"/>
            <a:stretch/>
          </p:blipFill>
          <p:spPr>
            <a:xfrm>
              <a:off x="363600" y="4795920"/>
              <a:ext cx="1431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AutoShape 27"/>
            <p:cNvSpPr/>
            <p:nvPr/>
          </p:nvSpPr>
          <p:spPr>
            <a:xfrm>
              <a:off x="1877400" y="5085360"/>
              <a:ext cx="2680200" cy="93492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知道了哪些数学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组合 1"/>
          <p:cNvGrpSpPr/>
          <p:nvPr/>
        </p:nvGrpSpPr>
        <p:grpSpPr>
          <a:xfrm>
            <a:off x="2771640" y="2932200"/>
            <a:ext cx="5023080" cy="2104920"/>
            <a:chOff x="2771640" y="2932200"/>
            <a:chExt cx="5023080" cy="2104920"/>
          </a:xfrm>
        </p:grpSpPr>
        <p:pic>
          <p:nvPicPr>
            <p:cNvPr id="83" name="Picture 3" descr=""/>
            <p:cNvPicPr/>
            <p:nvPr/>
          </p:nvPicPr>
          <p:blipFill>
            <a:blip r:embed="rId3"/>
            <a:stretch/>
          </p:blipFill>
          <p:spPr>
            <a:xfrm>
              <a:off x="2771640" y="3035880"/>
              <a:ext cx="1828800" cy="200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AutoShape 27"/>
            <p:cNvSpPr/>
            <p:nvPr/>
          </p:nvSpPr>
          <p:spPr>
            <a:xfrm>
              <a:off x="5004000" y="2932200"/>
              <a:ext cx="2790720" cy="1288800"/>
            </a:xfrm>
            <a:prstGeom prst="wedgeRoundRectCallout">
              <a:avLst>
                <a:gd name="adj1" fmla="val -76898"/>
                <a:gd name="adj2" fmla="val 10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丫丫太喜欢书中的故事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第一天就看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8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页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"/>
          <p:cNvGrpSpPr/>
          <p:nvPr/>
        </p:nvGrpSpPr>
        <p:grpSpPr>
          <a:xfrm>
            <a:off x="299880" y="1616040"/>
            <a:ext cx="4395960" cy="1800360"/>
            <a:chOff x="299880" y="1616040"/>
            <a:chExt cx="4395960" cy="1800360"/>
          </a:xfrm>
        </p:grpSpPr>
        <p:pic>
          <p:nvPicPr>
            <p:cNvPr id="88" name="Picture 72" descr="女孩2"/>
            <p:cNvPicPr/>
            <p:nvPr/>
          </p:nvPicPr>
          <p:blipFill>
            <a:blip r:embed="rId1"/>
            <a:stretch/>
          </p:blipFill>
          <p:spPr>
            <a:xfrm>
              <a:off x="299880" y="1616040"/>
              <a:ext cx="1431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27"/>
            <p:cNvSpPr/>
            <p:nvPr/>
          </p:nvSpPr>
          <p:spPr>
            <a:xfrm>
              <a:off x="1731600" y="1649520"/>
              <a:ext cx="2964240" cy="93528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这本书的总页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Text Box 18"/>
          <p:cNvSpPr/>
          <p:nvPr/>
        </p:nvSpPr>
        <p:spPr>
          <a:xfrm>
            <a:off x="5189400" y="3213000"/>
            <a:ext cx="27925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-20×14÷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4-280÷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4-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2"/>
          <p:cNvGrpSpPr/>
          <p:nvPr/>
        </p:nvGrpSpPr>
        <p:grpSpPr>
          <a:xfrm>
            <a:off x="5189400" y="1989000"/>
            <a:ext cx="4094280" cy="1798920"/>
            <a:chOff x="5189400" y="1989000"/>
            <a:chExt cx="4094280" cy="1798920"/>
          </a:xfrm>
        </p:grpSpPr>
        <p:pic>
          <p:nvPicPr>
            <p:cNvPr id="92" name="Picture 33" descr="男孩1"/>
            <p:cNvPicPr/>
            <p:nvPr/>
          </p:nvPicPr>
          <p:blipFill>
            <a:blip r:embed="rId2"/>
            <a:stretch/>
          </p:blipFill>
          <p:spPr>
            <a:xfrm>
              <a:off x="7668000" y="1989000"/>
              <a:ext cx="161568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27"/>
            <p:cNvSpPr/>
            <p:nvPr/>
          </p:nvSpPr>
          <p:spPr>
            <a:xfrm>
              <a:off x="5189400" y="1989000"/>
              <a:ext cx="2268720" cy="610560"/>
            </a:xfrm>
            <a:prstGeom prst="wedgeRoundRectCallout">
              <a:avLst>
                <a:gd name="adj1" fmla="val 61347"/>
                <a:gd name="adj2" fmla="val 17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列成综合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Text Box 18"/>
          <p:cNvSpPr/>
          <p:nvPr/>
        </p:nvSpPr>
        <p:spPr>
          <a:xfrm>
            <a:off x="1814400" y="337500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×14=280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页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0÷28=10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-10=4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2268360" y="527688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完这本书比计划要少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1079640" y="1415880"/>
            <a:ext cx="73436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工给图书馆做一批书架。计划每天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做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71560" y="2424240"/>
            <a:ext cx="5770800" cy="24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3" descr="男孩1"/>
          <p:cNvPicPr/>
          <p:nvPr/>
        </p:nvPicPr>
        <p:blipFill>
          <a:blip r:embed="rId2"/>
          <a:stretch/>
        </p:blipFill>
        <p:spPr>
          <a:xfrm>
            <a:off x="7542360" y="483408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7"/>
          <p:cNvSpPr/>
          <p:nvPr/>
        </p:nvSpPr>
        <p:spPr>
          <a:xfrm>
            <a:off x="5364000" y="5097600"/>
            <a:ext cx="2178360" cy="92376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天做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+4=1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2" descr="女孩2"/>
          <p:cNvPicPr/>
          <p:nvPr/>
        </p:nvPicPr>
        <p:blipFill>
          <a:blip r:embed="rId3"/>
          <a:stretch/>
        </p:blipFill>
        <p:spPr>
          <a:xfrm>
            <a:off x="363600" y="480708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7"/>
          <p:cNvSpPr/>
          <p:nvPr/>
        </p:nvSpPr>
        <p:spPr>
          <a:xfrm>
            <a:off x="1876320" y="4948200"/>
            <a:ext cx="26812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2" descr="女孩2"/>
          <p:cNvPicPr/>
          <p:nvPr/>
        </p:nvPicPr>
        <p:blipFill>
          <a:blip r:embed="rId1"/>
          <a:stretch/>
        </p:blipFill>
        <p:spPr>
          <a:xfrm>
            <a:off x="299880" y="161604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7"/>
          <p:cNvSpPr/>
          <p:nvPr/>
        </p:nvSpPr>
        <p:spPr>
          <a:xfrm>
            <a:off x="1731960" y="1649520"/>
            <a:ext cx="29638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总共要做多少个书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076720" y="3227400"/>
            <a:ext cx="2791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×20÷(12+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40÷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5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3" descr="男孩1"/>
          <p:cNvPicPr/>
          <p:nvPr/>
        </p:nvPicPr>
        <p:blipFill>
          <a:blip r:embed="rId2"/>
          <a:stretch/>
        </p:blipFill>
        <p:spPr>
          <a:xfrm>
            <a:off x="7667640" y="1989000"/>
            <a:ext cx="1616040" cy="17989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7"/>
          <p:cNvSpPr/>
          <p:nvPr/>
        </p:nvSpPr>
        <p:spPr>
          <a:xfrm>
            <a:off x="5189400" y="1989000"/>
            <a:ext cx="2268720" cy="60984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成综合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814400" y="337500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2×20=240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2+4=16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240÷16=15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300480" y="5157720"/>
            <a:ext cx="27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:15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能做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"/>
          <p:cNvSpPr/>
          <p:nvPr/>
        </p:nvSpPr>
        <p:spPr>
          <a:xfrm>
            <a:off x="1200240" y="3984480"/>
            <a:ext cx="7169040" cy="52128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三步混合运算的运算顺序：混合运算中，先算乘除法，后算加减法，有小括号的先算小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3"/>
          <p:cNvGrpSpPr/>
          <p:nvPr/>
        </p:nvGrpSpPr>
        <p:grpSpPr>
          <a:xfrm>
            <a:off x="1187280" y="1687680"/>
            <a:ext cx="4964400" cy="1800000"/>
            <a:chOff x="1187280" y="1687680"/>
            <a:chExt cx="4964400" cy="1800000"/>
          </a:xfrm>
        </p:grpSpPr>
        <p:pic>
          <p:nvPicPr>
            <p:cNvPr id="118" name="Picture 72" descr="女孩2"/>
            <p:cNvPicPr/>
            <p:nvPr/>
          </p:nvPicPr>
          <p:blipFill>
            <a:blip r:embed="rId1"/>
            <a:stretch/>
          </p:blipFill>
          <p:spPr>
            <a:xfrm>
              <a:off x="1187280" y="1687680"/>
              <a:ext cx="1431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27"/>
            <p:cNvSpPr/>
            <p:nvPr/>
          </p:nvSpPr>
          <p:spPr>
            <a:xfrm>
              <a:off x="2903400" y="1935720"/>
              <a:ext cx="3248280" cy="93492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三步四则混合运算的顺序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187280" y="26496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批货物用载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的货车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辆车各运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恰好运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批货物一共有多少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4:27Z</dcterms:modified>
  <cp:revision>285</cp:revision>
  <dc:subject>www.xkb1.com</dc:subject>
  <dc:title>www.xkb1.com</dc:title>
</cp:coreProperties>
</file>